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allwrong.wav" ContentType="audio/x-wav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EBBA-5F3A-4B16-821A-379A73566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8DB3-1B87-4E9D-B6D8-0E1E79F5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5A35-E130-4C7F-90D7-7FA42E479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6A1E-5F7B-4059-8A71-4F2BEFAEC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D939-F4C5-4002-A5FF-07066308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9536-3258-48BD-B3D2-27B5856E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2F9B-7951-4086-AA18-A3C16498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B82A-DFDA-4D27-B40A-2362CFB6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B01C-5C82-42AC-933A-D80206C4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5738-0CB2-48AB-89E2-0E016CEB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D933-D17C-4C38-AAAC-B435F22D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9123-AAFE-4C3B-A181-A107C922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8DE5-6843-40B3-BB69-475BC218B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2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audio" Target="../media/allwrong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audio" Target="../media/allwrong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audio" Target="../media/allwrong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audio" Target="../media/allwrong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tatements and Questio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 Tracie K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se dogs are very dirt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tate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P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365760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895480" y="259092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o you know what time it 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tate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P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365760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895480" y="259092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tatemen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ement  is a sentence that tells something. It ends with a period (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Messages can be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ent in 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ifferent w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Messages can be written or spoken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he sky is b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91520" y="304920"/>
            <a:ext cx="1447560" cy="12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question is a sentence that ask something. It ends with a question mark (?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you know a secret co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 flashlight be used to s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se Cod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smoke signals one kind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934320" y="609480"/>
            <a:ext cx="170496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o you have a favorite to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tate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P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365760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895480" y="259092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me people are funn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tate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P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365760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895480" y="259092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6:50:13Z</dcterms:created>
  <dc:creator>student</dc:creator>
  <dc:description/>
  <dc:language>en-US</dc:language>
  <cp:lastModifiedBy>student</cp:lastModifiedBy>
  <dcterms:modified xsi:type="dcterms:W3CDTF">2007-05-30T17:50:49Z</dcterms:modified>
  <cp:revision>4</cp:revision>
  <dc:subject/>
  <dc:title>Statements and Questions</dc:title>
</cp:coreProperties>
</file>